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34F-4761-46A9-8F83-2596BC21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8D4-012C-42C1-9E01-49CECB23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5A3-A0BB-4552-8CB7-A39EEBDF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A95-2A62-4F56-8E4C-46D1385C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772-5BBC-4D35-8BFD-1E5ACE9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D63-90FB-4483-A266-15D574FA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8CD-3204-4836-86C7-3F5B4C4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325-BB92-4AF2-9988-2D47FF2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177-5FD9-498D-8691-93DA812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33A-5AFD-4650-B72D-64BFA972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005-4C4D-4A73-B94D-5EF2EFD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0EF-42DC-44F6-B5B0-AD3B98C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A4D-280C-438A-8391-D4B53866F2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993A-C17F-406D-9FBB-61D70D65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ziswastika.pn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ascist_italy_flag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762120"/>
            <a:ext cx="632484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533520"/>
            <a:ext cx="6476760" cy="448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00"/>
                </a:solidFill>
                <a:latin typeface="Athenian"/>
              </a:rPr>
              <a:t>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981080" y="5562720"/>
            <a:ext cx="5257800" cy="455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ascist_italy_flag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447920" y="1270080"/>
            <a:ext cx="6324480" cy="4216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838080" y="1616040"/>
            <a:ext cx="7620120" cy="33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Characteristics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of 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. Ideolog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0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extreme right-wing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elebrates the nation or the race as an organic community transcending all other loy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nd continuing nation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use of patriotic mottos, slogans, symbols, so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are seen ever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2.  Subordination to the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sm seeks forcibly to subordinate ALL aspects of society to its vision of organic community [usually through a totalitarian state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uses organized violence to suppress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ication of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the tenets of Social Darwi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ti-democr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3. Cult of State Worshi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219320"/>
            <a:ext cx="7713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had no significance except as a member of the st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cists were ta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belie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bedi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ob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att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f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4.  The Myth of Rebir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phoenix rising up from the as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a national or racial rebirth after a period of decline or de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for a “spiritual revolution” against signs of moral decay [such as individualism and materialism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purge “alien” forces and groups that threaten the organic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5.  Militar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ussolini"/>
          <p:cNvPicPr/>
          <p:nvPr/>
        </p:nvPicPr>
        <p:blipFill>
          <a:blip r:embed="rId1"/>
          <a:stretch/>
        </p:blipFill>
        <p:spPr>
          <a:xfrm>
            <a:off x="6019920" y="1143000"/>
            <a:ext cx="24667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0" descr="mussolini"/>
          <p:cNvPicPr/>
          <p:nvPr/>
        </p:nvPicPr>
        <p:blipFill>
          <a:blip r:embed="rId2"/>
          <a:stretch/>
        </p:blipFill>
        <p:spPr>
          <a:xfrm>
            <a:off x="3200400" y="4952880"/>
            <a:ext cx="205740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mussolini"/>
          <p:cNvPicPr/>
          <p:nvPr/>
        </p:nvPicPr>
        <p:blipFill>
          <a:blip r:embed="rId3"/>
          <a:stretch/>
        </p:blipFill>
        <p:spPr>
          <a:xfrm>
            <a:off x="2057400" y="1143000"/>
            <a:ext cx="24890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9" descr="fascist youth.jpg"/>
          <p:cNvPicPr/>
          <p:nvPr/>
        </p:nvPicPr>
        <p:blipFill>
          <a:blip r:embed="rId4"/>
          <a:stretch/>
        </p:blipFill>
        <p:spPr>
          <a:xfrm>
            <a:off x="6400800" y="4191120"/>
            <a:ext cx="23814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6.  Identification of Enemies or Scapegoats as a Unifying Ca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240" y="16765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ople are rallied into a unifying patriotic frenzy over the need to eliminate a perceived common threat or f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oe could be racial, ethnic, a religious minority, liberals, communis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La_difesa_della_razza-The Defense of the Race.jpg"/>
          <p:cNvPicPr/>
          <p:nvPr/>
        </p:nvPicPr>
        <p:blipFill>
          <a:blip r:embed="rId3"/>
          <a:srcRect l="2331" t="1636" r="1959" b="1707"/>
          <a:stretch/>
        </p:blipFill>
        <p:spPr>
          <a:xfrm>
            <a:off x="609480" y="1523880"/>
            <a:ext cx="3429000" cy="493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7. Disdain for the Recognition of Human Righ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fear of enemies and the need for security, the people are persuaded that human rights can be ignored out of “need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ook the other way or even approve of torture, summary executions, long incarcerations of prisoners, assassin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8. Religion &amp; Governme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Are Intertw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cist governments tend to use the most common religion in the nation as a tool to manipulate public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eld religious rhetoric, symbolism, mythology, etc., into their policies [appears to give a religi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imatu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ies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priests giving the fascist salute.jpg"/>
          <p:cNvPicPr/>
          <p:nvPr/>
        </p:nvPicPr>
        <p:blipFill>
          <a:blip r:embed="rId3"/>
          <a:stretch/>
        </p:blipFill>
        <p:spPr>
          <a:xfrm>
            <a:off x="4572000" y="38052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9. Disdain for Intellectual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&amp; for th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hostility to higher education and academia is promo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s and other academics are censored or arres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expression in the arts and letters is openly atta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major components of fascism.  This will be important in understanding Mussolini and Hitler’s gover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3 components of fasc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thenian"/>
              </a:rPr>
              <a:t>10. Rampant Cronyism &amp; Corrup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at is Cronyism?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scist regimes are almost always governed by groups of friends and associates who appoint each to government posi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s group uses governmental power and authority to protect their friends from accounta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ational resources and even treasures can be appropriated or even outright stolen by government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1. Fraudulent Ele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2388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elections are a complete s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, elections are manipulated by smear campaigns against or even assassination of opposition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legislation to control who can v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2. Controlled Mass Med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3" descr="young fascist magazine - 1931.jpg"/>
          <p:cNvPicPr/>
          <p:nvPr/>
        </p:nvPicPr>
        <p:blipFill>
          <a:blip r:embed="rId1"/>
          <a:stretch/>
        </p:blipFill>
        <p:spPr>
          <a:xfrm>
            <a:off x="4343400" y="1219320"/>
            <a:ext cx="4168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3600" y="1143000"/>
            <a:ext cx="328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they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he med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ways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y have controlled i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13. Labor Power is Suppressed; Corporate Power is Prot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organizing power of labor is the only real threat to a fascist government, labor unions are suppressed or independent unions are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government favors the worker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ustrial and business aristocracy of a fascist state often are the ones who put the government leaders in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a mutually beneficial business/government relationship and power el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848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A Definition of Fasc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343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Fasc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olitical philosophy that advocates the glorification of the state, a single party system with a strong ruler, and an aggressive form of nationalis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903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government that aimed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pect of a citizens life. These governments viewed individuals as servants of the state and citizens were allowed few personal freed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otalitarianism- Communism and Fas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- Germany- Italy-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talitarianism means:  Total 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ople’s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ere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lit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Commun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nd political system in which the government owns almost all the mean of pro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6440" y="3370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Diagram 7"/>
          <p:cNvGrpSpPr/>
          <p:nvPr/>
        </p:nvGrpSpPr>
        <p:grpSpPr>
          <a:xfrm>
            <a:off x="609480" y="127080"/>
            <a:ext cx="7772040" cy="6476400"/>
            <a:chOff x="609480" y="127080"/>
            <a:chExt cx="7772040" cy="6476400"/>
          </a:xfrm>
        </p:grpSpPr>
        <p:sp>
          <p:nvSpPr>
            <p:cNvPr id="57" name="AutoShape 6"/>
            <p:cNvSpPr/>
            <p:nvPr/>
          </p:nvSpPr>
          <p:spPr>
            <a:xfrm>
              <a:off x="609480" y="127080"/>
              <a:ext cx="7772040" cy="64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8"/>
            <p:cNvSpPr/>
            <p:nvPr/>
          </p:nvSpPr>
          <p:spPr>
            <a:xfrm>
              <a:off x="3281040" y="1226520"/>
              <a:ext cx="2428560" cy="242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865680" y="376200"/>
              <a:ext cx="12614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Naz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4079160" y="2612160"/>
              <a:ext cx="2428920" cy="2428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55776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Fasc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2480400" y="2609280"/>
              <a:ext cx="2428560" cy="2428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17144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un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11430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*These theories, specifically Communism and Fascism,  are completely different theories that are bitterly opposed; however they exhibit the sam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100px-Naziswasti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ammer_sickle"/>
          <p:cNvPicPr/>
          <p:nvPr/>
        </p:nvPicPr>
        <p:blipFill>
          <a:blip r:embed="rId3"/>
          <a:stretch/>
        </p:blipFill>
        <p:spPr>
          <a:xfrm>
            <a:off x="2895480" y="350532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Fascist_Italy_flag"/>
          <p:cNvPicPr/>
          <p:nvPr/>
        </p:nvPicPr>
        <p:blipFill>
          <a:blip r:embed="rId4"/>
          <a:stretch/>
        </p:blipFill>
        <p:spPr>
          <a:xfrm>
            <a:off x="4952880" y="3657600"/>
            <a:ext cx="1295640" cy="81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2971800" y="2895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vs. Fas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ly on dictatorial rule and a totalitarian regime that maintains rigid control of the people through force and cens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seeks international revolution and appeals to workers.  Fascism is nationalistic and appeals to the middle cl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has no set classes while fascism promises to preserve social classes and defend the ownership of proper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pose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markville.ss.yrdsb.edu.on.ca/politics/Political-Spectrum_MM.gif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The Fasces Symb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ntent Placeholder 3" descr="Roman fasces.jpg"/>
          <p:cNvPicPr/>
          <p:nvPr/>
        </p:nvPicPr>
        <p:blipFill>
          <a:blip r:embed="rId1"/>
          <a:stretch/>
        </p:blipFill>
        <p:spPr>
          <a:xfrm>
            <a:off x="3733920" y="2057400"/>
            <a:ext cx="11682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4" descr="fasces.jpg"/>
          <p:cNvPicPr/>
          <p:nvPr/>
        </p:nvPicPr>
        <p:blipFill>
          <a:blip r:embed="rId2"/>
          <a:srcRect l="10055" t="3176" r="9508" b="11113"/>
          <a:stretch/>
        </p:blipFill>
        <p:spPr>
          <a:xfrm>
            <a:off x="685800" y="1447920"/>
            <a:ext cx="2438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5410080" y="175248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s from the Latin word </a:t>
            </a:r>
            <a:r>
              <a:rPr b="0" i="1" lang="en-US" sz="2200" spc="-1" strike="noStrike">
                <a:solidFill>
                  <a:srgbClr val="336600"/>
                </a:solidFill>
                <a:latin typeface="Comic Sans MS"/>
              </a:rPr>
              <a:t>fas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ncient Rome,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fasce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re cylindrical bundles of wooden rods, tied tightly together around an ax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symbolize unity and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42:57Z</dcterms:created>
  <dc:creator>Susan M. Pojer</dc:creator>
  <dc:description>Horace Greeley HS
Chappaqua, NY</dc:description>
  <cp:keywords>Italian fascism fascism PowerPoint</cp:keywords>
  <dc:language>en-US</dc:language>
  <cp:lastModifiedBy>Brian Sheehy</cp:lastModifiedBy>
  <dcterms:modified xsi:type="dcterms:W3CDTF">2011-03-29T13:24:13Z</dcterms:modified>
  <cp:revision>60</cp:revision>
  <dc:subject>Italian Fascism</dc:subject>
  <dc:title>Slide 1</dc:title>
</cp:coreProperties>
</file>