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8AE9-98C2-4AFF-BA6C-4778EA82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8781-7474-49E0-8E5F-8DFE474B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4417-B402-4F47-9442-E3DC6138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7A70-6BB6-4C91-A4D7-9E466E71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BFEE-2AEC-44EA-B10E-95D1A409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6F26-96E6-4B83-928C-F9D262F5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44A9-92E5-40AE-8584-B1CB94AB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ADFE-08E3-42FE-B3B3-0024CEF7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068E-50C6-45B6-99DC-4CCF24B6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2791-EEE7-4482-ACC7-18ECF1C5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5C2E-6A1A-4EB0-A260-0A05CC96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5800-F63D-41CE-964A-0AE8DBAB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60FE-843F-4A84-99D8-E9B80637686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5F20-A4C4-4583-A558-C9DEF28FF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aziswastika.pn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fascist_italy_flag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523880" y="762120"/>
            <a:ext cx="6324840" cy="4216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533520"/>
            <a:ext cx="6476760" cy="4483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336600"/>
                </a:solidFill>
                <a:latin typeface="Athenian"/>
              </a:rPr>
              <a:t>Fascis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981080" y="5562720"/>
            <a:ext cx="5257800" cy="45540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fascist_italy_flag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447920" y="1270080"/>
            <a:ext cx="6324480" cy="421632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838080" y="1616040"/>
            <a:ext cx="7620120" cy="33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Athenian"/>
              </a:rPr>
              <a:t>The</a:t>
            </a:r>
            <a:br>
              <a:rPr sz="7200"/>
            </a:br>
            <a:r>
              <a:rPr b="0" lang="en-US" sz="7200" spc="-1" strike="noStrike">
                <a:solidFill>
                  <a:srgbClr val="c00000"/>
                </a:solidFill>
                <a:latin typeface="Athenian"/>
              </a:rPr>
              <a:t>Characteristics</a:t>
            </a:r>
            <a:br>
              <a:rPr sz="7200"/>
            </a:br>
            <a:r>
              <a:rPr b="0" lang="en-US" sz="7200" spc="-1" strike="noStrike">
                <a:solidFill>
                  <a:srgbClr val="c00000"/>
                </a:solidFill>
                <a:latin typeface="Athenian"/>
              </a:rPr>
              <a:t>of Fascis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1. Ideolog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0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m of extreme right-wing ide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elebrates the nation or the race as an organic community transcending all other loyal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ful and continuing national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 use of patriotic mottos, slogans, symbols, song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 are seen everyw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2.  Subordination to the Sta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cism seeks forcibly to subordinate ALL aspects of society to its vision of organic community [usually through a totalitarian state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uses organized violence to suppress op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rification of fo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s the tenets of Social Darwini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ti-democra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3. Cult of State Worshi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219320"/>
            <a:ext cx="771372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ividual had no significance except as a member of the sta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scists were tau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der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[to believ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bedir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[to obey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batter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[to figh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4.  The Myth of Rebirt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949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phoenix rising up from the ash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hasis on a national or racial rebirth after a period of decline or destr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s for a “spiritual revolution” against signs of moral decay [such as individualism and materialism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s to purge “alien” forces and groups that threaten the organic commu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0769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5.  Militaris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mussolini"/>
          <p:cNvPicPr/>
          <p:nvPr/>
        </p:nvPicPr>
        <p:blipFill>
          <a:blip r:embed="rId1"/>
          <a:stretch/>
        </p:blipFill>
        <p:spPr>
          <a:xfrm>
            <a:off x="6019920" y="1143000"/>
            <a:ext cx="2466720" cy="25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10" descr="mussolini"/>
          <p:cNvPicPr/>
          <p:nvPr/>
        </p:nvPicPr>
        <p:blipFill>
          <a:blip r:embed="rId2"/>
          <a:stretch/>
        </p:blipFill>
        <p:spPr>
          <a:xfrm>
            <a:off x="3200400" y="4952880"/>
            <a:ext cx="2057400" cy="164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Picture 12" descr="mussolini"/>
          <p:cNvPicPr/>
          <p:nvPr/>
        </p:nvPicPr>
        <p:blipFill>
          <a:blip r:embed="rId3"/>
          <a:stretch/>
        </p:blipFill>
        <p:spPr>
          <a:xfrm>
            <a:off x="2057400" y="1143000"/>
            <a:ext cx="248904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9" descr="fascist youth.jpg"/>
          <p:cNvPicPr/>
          <p:nvPr/>
        </p:nvPicPr>
        <p:blipFill>
          <a:blip r:embed="rId4"/>
          <a:stretch/>
        </p:blipFill>
        <p:spPr>
          <a:xfrm>
            <a:off x="6400800" y="4191120"/>
            <a:ext cx="238140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thenian"/>
              </a:rPr>
              <a:t>6.  Identification of Enemies or Scapegoats as a Unifying Cau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800240" y="167652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ople are rallied into a unifying patriotic frenzy over the need to eliminate a perceived common threat or fo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foe could be racial, ethnic, a religious minority, liberals, communist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La_difesa_della_razza-The Defense of the Race.jpg"/>
          <p:cNvPicPr/>
          <p:nvPr/>
        </p:nvPicPr>
        <p:blipFill>
          <a:blip r:embed="rId3"/>
          <a:srcRect l="2331" t="1636" r="1959" b="1707"/>
          <a:stretch/>
        </p:blipFill>
        <p:spPr>
          <a:xfrm>
            <a:off x="609480" y="1523880"/>
            <a:ext cx="3429000" cy="493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thenian"/>
              </a:rPr>
              <a:t>7. Disdain for the Recognition of Human Righ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15238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the fear of enemies and the need for security, the people are persuaded that human rights can be ignored out of “need.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look the other way or even approve of torture, summary executions, long incarcerations of prisoners, assassination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07696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thenian"/>
              </a:rPr>
              <a:t>8. Religion &amp; Government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thenian"/>
              </a:rPr>
              <a:t>Are Intertw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scist governments tend to use the most common religion in the nation as a tool to manipulate public opin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meld religious rhetoric, symbolism, mythology, etc., into their policies [appears to give a religiou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imatur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vern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cies!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priests giving the fascist salute.jpg"/>
          <p:cNvPicPr/>
          <p:nvPr/>
        </p:nvPicPr>
        <p:blipFill>
          <a:blip r:embed="rId3"/>
          <a:stretch/>
        </p:blipFill>
        <p:spPr>
          <a:xfrm>
            <a:off x="4572000" y="3805200"/>
            <a:ext cx="38098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thenian"/>
              </a:rPr>
              <a:t>9. Disdain for Intellectual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thenian"/>
              </a:rPr>
              <a:t>&amp; for the 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hostility to higher education and academia is promot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ors and other academics are censored or arrest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expression in the arts and letters is openly attac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of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of today will be to look at the major components of fascism.  This will be important in understanding Mussolini and Hitler’s govern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 to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itari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c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13 components of fascis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thenian"/>
              </a:rPr>
              <a:t>10. Rampant Cronyism &amp; Corrup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hat is Cronyism?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ascist regimes are almost always governed by groups of friends and associates who appoint each to government positio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s group uses governmental power and authority to protect their friends from accountabilit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ational resources and even treasures can be appropriated or even outright stolen by government leade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11. Fraudulent Elect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523880"/>
            <a:ext cx="9144000" cy="40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elections are a complete sh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imes, elections are manipulated by smear campaigns against or even assassination of opposition candid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 of legislation to control who can v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12. Controlled Mass Med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Content Placeholder 3" descr="young fascist magazine - 1931.jpg"/>
          <p:cNvPicPr/>
          <p:nvPr/>
        </p:nvPicPr>
        <p:blipFill>
          <a:blip r:embed="rId1"/>
          <a:stretch/>
        </p:blipFill>
        <p:spPr>
          <a:xfrm>
            <a:off x="4343400" y="1219320"/>
            <a:ext cx="4168800" cy="533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Rectangle 5"/>
          <p:cNvSpPr/>
          <p:nvPr/>
        </p:nvSpPr>
        <p:spPr>
          <a:xfrm>
            <a:off x="3600" y="1143000"/>
            <a:ext cx="328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would they want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the med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some ways you 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may have controlled it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thenian"/>
              </a:rPr>
              <a:t>13. Labor Power is Suppressed; Corporate Power is Protect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the organizing power of labor is the only real threat to a fascist government, labor unions are suppressed or independent unions are elimin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government favors the worker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ustrial and business aristocracy of a fascist state often are the ones who put the government leaders into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0" indent="-2905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reates a mutually beneficial business/government relationship and power eli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3580920"/>
            <a:ext cx="78483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A Definition of Fascis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52280" y="43434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Fascis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political philosophy that advocates the glorification of the state, a single party system with a strong ruler, and an aggressive form of nationalis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0"/>
            <a:ext cx="9031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itaria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stem of government that aimed to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aspect of a citizens life. These governments viewed individuals as servants of the state and citizens were allowed few personal freedo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 of Totalitarianism- Communism and Fasc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- Germany- Italy- Russ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talitarianism means:  Total contro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eople’s l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what they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where they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olitic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ve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Communis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848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and political system in which the government owns almost all the mean of produ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800600" y="25146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136440" y="3370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Diagram 7"/>
          <p:cNvGrpSpPr/>
          <p:nvPr/>
        </p:nvGrpSpPr>
        <p:grpSpPr>
          <a:xfrm>
            <a:off x="609480" y="127080"/>
            <a:ext cx="7772040" cy="6476400"/>
            <a:chOff x="609480" y="127080"/>
            <a:chExt cx="7772040" cy="6476400"/>
          </a:xfrm>
        </p:grpSpPr>
        <p:sp>
          <p:nvSpPr>
            <p:cNvPr id="57" name="AutoShape 6"/>
            <p:cNvSpPr/>
            <p:nvPr/>
          </p:nvSpPr>
          <p:spPr>
            <a:xfrm>
              <a:off x="609480" y="127080"/>
              <a:ext cx="7772040" cy="64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28"/>
            <p:cNvSpPr/>
            <p:nvPr/>
          </p:nvSpPr>
          <p:spPr>
            <a:xfrm>
              <a:off x="3281040" y="1226520"/>
              <a:ext cx="2428560" cy="24289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29"/>
            <p:cNvSpPr/>
            <p:nvPr/>
          </p:nvSpPr>
          <p:spPr>
            <a:xfrm>
              <a:off x="3865680" y="376200"/>
              <a:ext cx="126144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Nazism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0"/>
            <p:cNvSpPr/>
            <p:nvPr/>
          </p:nvSpPr>
          <p:spPr>
            <a:xfrm>
              <a:off x="4079160" y="2612160"/>
              <a:ext cx="2428920" cy="24282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1"/>
            <p:cNvSpPr/>
            <p:nvPr/>
          </p:nvSpPr>
          <p:spPr>
            <a:xfrm>
              <a:off x="6557760" y="4555080"/>
              <a:ext cx="12614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Fascism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2"/>
            <p:cNvSpPr/>
            <p:nvPr/>
          </p:nvSpPr>
          <p:spPr>
            <a:xfrm>
              <a:off x="2480400" y="2609280"/>
              <a:ext cx="2428560" cy="24289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3"/>
            <p:cNvSpPr/>
            <p:nvPr/>
          </p:nvSpPr>
          <p:spPr>
            <a:xfrm>
              <a:off x="1171440" y="4555080"/>
              <a:ext cx="12614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Communism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4"/>
          <p:cNvSpPr/>
          <p:nvPr/>
        </p:nvSpPr>
        <p:spPr>
          <a:xfrm>
            <a:off x="1143000" y="563868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Arial"/>
              </a:rPr>
              <a:t>*These theories, specifically Communism and Fascism,  are completely different theories that are bitterly opposed; however they exhibit the same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6" descr="100px-Naziswastik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1447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Hammer_sickle"/>
          <p:cNvPicPr/>
          <p:nvPr/>
        </p:nvPicPr>
        <p:blipFill>
          <a:blip r:embed="rId3"/>
          <a:stretch/>
        </p:blipFill>
        <p:spPr>
          <a:xfrm>
            <a:off x="2895480" y="3505320"/>
            <a:ext cx="8604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" descr="Fascist_Italy_flag"/>
          <p:cNvPicPr/>
          <p:nvPr/>
        </p:nvPicPr>
        <p:blipFill>
          <a:blip r:embed="rId4"/>
          <a:stretch/>
        </p:blipFill>
        <p:spPr>
          <a:xfrm>
            <a:off x="4952880" y="3657600"/>
            <a:ext cx="1295640" cy="814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1"/>
          <p:cNvSpPr/>
          <p:nvPr/>
        </p:nvSpPr>
        <p:spPr>
          <a:xfrm>
            <a:off x="2971800" y="28954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Totalitari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sm vs. Fasc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rely on dictatorial rule and a totalitarian regime that maintains rigid control of the people through force and censor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sm seeks international revolution and appeals to workers.  Fascism is nationalistic and appeals to the middle clas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sm has no set classes while fascism promises to preserve social classes and defend the ownership of propert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oppose each o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www.markville.ss.yrdsb.edu.on.ca/politics/Political-Spectrum_MM.gif"/>
          <p:cNvPicPr/>
          <p:nvPr/>
        </p:nvPicPr>
        <p:blipFill>
          <a:blip r:embed="rId1"/>
          <a:stretch/>
        </p:blipFill>
        <p:spPr>
          <a:xfrm>
            <a:off x="304920" y="1600200"/>
            <a:ext cx="88390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thenian"/>
              </a:rPr>
              <a:t>The Fasces Symbo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ontent Placeholder 3" descr="Roman fasces.jpg"/>
          <p:cNvPicPr/>
          <p:nvPr/>
        </p:nvPicPr>
        <p:blipFill>
          <a:blip r:embed="rId1"/>
          <a:stretch/>
        </p:blipFill>
        <p:spPr>
          <a:xfrm>
            <a:off x="3733920" y="2057400"/>
            <a:ext cx="116820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Picture 4" descr="fasces.jpg"/>
          <p:cNvPicPr/>
          <p:nvPr/>
        </p:nvPicPr>
        <p:blipFill>
          <a:blip r:embed="rId2"/>
          <a:srcRect l="10055" t="3176" r="9508" b="11113"/>
          <a:stretch/>
        </p:blipFill>
        <p:spPr>
          <a:xfrm>
            <a:off x="685800" y="1447920"/>
            <a:ext cx="24382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TextBox 5"/>
          <p:cNvSpPr/>
          <p:nvPr/>
        </p:nvSpPr>
        <p:spPr>
          <a:xfrm>
            <a:off x="5410080" y="1752480"/>
            <a:ext cx="3733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mes from the Latin word </a:t>
            </a:r>
            <a:r>
              <a:rPr b="0" i="1" lang="en-US" sz="2200" spc="-1" strike="noStrike">
                <a:solidFill>
                  <a:srgbClr val="336600"/>
                </a:solidFill>
                <a:latin typeface="Comic Sans MS"/>
              </a:rPr>
              <a:t>fas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ancient Rome, the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fasces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ere cylindrical bundles of wooden rods, tied tightly together around an ax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y symbolize unity and pow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21:42:57Z</dcterms:created>
  <dc:creator>Susan M. Pojer</dc:creator>
  <dc:description>Horace Greeley HS
Chappaqua, NY</dc:description>
  <cp:keywords>Italian fascism fascism PowerPoint</cp:keywords>
  <dc:language>en-US</dc:language>
  <cp:lastModifiedBy>Brian Sheehy</cp:lastModifiedBy>
  <dcterms:modified xsi:type="dcterms:W3CDTF">2011-03-29T13:24:13Z</dcterms:modified>
  <cp:revision>60</cp:revision>
  <dc:subject>Italian Fascism</dc:subject>
  <dc:title>Slide 1</dc:title>
</cp:coreProperties>
</file>