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7.png" ContentType="image/png"/>
  <Override PartName="/ppt/media/image18.pct" ContentType="image/x-pict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1C4-8A5C-4AC7-A668-77ABFEC2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DEB-435D-45B0-9388-06806B0D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F3A-7058-4240-A8DE-B51B0176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7A4-4585-44D8-BA99-A5849846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19C-A931-4D89-AA0A-0F61CEC7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BFD-B3A3-400E-A062-0EC6A6BF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887-DEA5-4107-8215-4AD7949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094-D119-4054-A44D-A21E53E9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7DC-B5B2-4F93-B872-1B29AA3F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8DE-0AC1-45F3-9876-1D50FD3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16D-545F-4215-8EC3-3BAABD09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CF1-44F5-4033-B1E7-6990E40F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95C8-6992-478A-A74F-93BAFB047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 to W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-360"/>
            <a:ext cx="4114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two figures in the cartoon?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horoughfare' means 'No Way Through'. What does the cartoonist mean by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way the two figures are draw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 has the support of the cartoon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possible to say whether this cartoon reflects public opinion in Britain at th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cartoon might have influenced public opinion or government poli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011480" y="0"/>
            <a:ext cx="513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 2nd August 1914, the German army invaded Luxembourg and  Belgium according to the Schlieffen Pl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 Germans were held up by the Belgium army, backed up by the BEF (British  Expeditionary Force) which arrived extremely quick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mobilized in just 10 days and Germany was forced to withdraw troops from the Schlieffen Plan to defend her eastern bord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rmany  did not take the chance to take Paris, instead decided to attack east of  the capital.  They were met by French at the battle of the Marne  (5-11 Sept) which halted the German advan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29"/>
          <p:cNvSpPr/>
          <p:nvPr/>
        </p:nvSpPr>
        <p:spPr>
          <a:xfrm>
            <a:off x="457200" y="205740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ttle of Ma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ped the Germans but French troops were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sides dug trenches for 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LE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n Adventu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028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417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54864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ians join German soldiers on their first mile's march towards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rich Beutow- German School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memories of those of a child of course. I was in a small German garrison town in 1914 and I remember very well the tremendous enthusiasm.  Of course, we schoolboys were all indoctrinated with great patriotism when war broke out.  My father was an active infantry officer and I shall never forget the day when they marched out to the trains.  All the soldiers were decorated with flowers, there was no gun which did not show a flower.  Even the horses I think were decorated.  And of course all the people followed them.  Bands playing, flags flying, a terrific sort of overwhelming conviction that Germany now would go into war and win it very quickl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optport3"/>
          <p:cNvPicPr/>
          <p:nvPr/>
        </p:nvPicPr>
        <p:blipFill>
          <a:blip r:embed="rId1"/>
          <a:stretch/>
        </p:blipFill>
        <p:spPr>
          <a:xfrm>
            <a:off x="4641840" y="380880"/>
            <a:ext cx="450216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uddenly realised that the ambition of my life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- since I was two - to go on a military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pedition against the Turks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upert Brooke,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soldiers on the "Paris Express". The graffiti reads "on to Pari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0"/>
            <a:ext cx="6045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students on their way to en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 German Boy Pretends to Be a Sold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young boy pretending to be a German soldier"/>
          <p:cNvPicPr/>
          <p:nvPr/>
        </p:nvPicPr>
        <p:blipFill>
          <a:blip r:embed="rId1"/>
          <a:stretch/>
        </p:blipFill>
        <p:spPr>
          <a:xfrm>
            <a:off x="2133720" y="1447920"/>
            <a:ext cx="51814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we will be looking at the beginning stages of the war and the excitement surround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lieffen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ecruits of the </a:t>
            </a: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Central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Austro-Hung troops waiting to depart"/>
          <p:cNvPicPr/>
          <p:nvPr/>
        </p:nvPicPr>
        <p:blipFill>
          <a:blip r:embed="rId1"/>
          <a:stretch/>
        </p:blipFill>
        <p:spPr>
          <a:xfrm>
            <a:off x="685800" y="1905120"/>
            <a:ext cx="3021120" cy="35049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4419720" cy="4114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66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 German Soldier Says Farewell to His 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German recruit bids farewell to his mother"/>
          <p:cNvPicPr/>
          <p:nvPr/>
        </p:nvPicPr>
        <p:blipFill>
          <a:blip r:embed="rId2"/>
          <a:stretch/>
        </p:blipFill>
        <p:spPr>
          <a:xfrm>
            <a:off x="4876920" y="3352680"/>
            <a:ext cx="3733560" cy="2998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304920" y="5638680"/>
            <a:ext cx="2514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ustro-Hungar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91320" y="0"/>
            <a:ext cx="3047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are-free French troops would soon learn the realities of war in the industrial 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14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soldiers, also joined by civilians, on their way to Ber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705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0"/>
          <a:ext cx="8305560" cy="66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66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 War the Adventure they thought it w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9480" y="1112760"/>
            <a:ext cx="82803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s book is to be neither an accusation nor a confession, and least of all an adventure, for death is not an adventure to those who stand face to face with it. It will try simply to tell of a generation of men who, even though they may have escaped shells, were destroyed by the war.”-- All Quiet on the We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5283360" y="0"/>
            <a:ext cx="38606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s of Troops at Start of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- 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- 1.3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ia/ Hungry- 4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sia- 1.4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Britain- 120,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men nor their officers had any experience in European warfa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160" y="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n Schlieffen's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324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rman plans for the war were based upon the work of Germany Army Chief of Staff, Alfred von Schlieffe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was asked to plan a  way of preventing a war on two fronts.    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believed that it was a priority to defeat France quickly, forcing them to surrender before Russia had a chance to mobilize her  armed forc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on Schlieffen planned to take advantage of the much slower mobilization capabilities of the Russian military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plan called for pushing the bulk of the entire German army against France in a massive six-week campaign. Once France had been defeated, the German army would then quickly move to the Eastern front and face the Russia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296040" y="1066680"/>
            <a:ext cx="2847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 of the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 would take at least 6 weeks to mobiliz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ance  would be easily defeated in 6 week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lgium  would not resist any German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ritain  would remain neut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254480" y="106668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aiser's war order is read on 1-Aug-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will be home before the leaves have fallen from the trees!!” - Wilhe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57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2nd August 1914, the Schlieffen Plan was put into oper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 Army invade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Luxembour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s were held up b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an Ar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ere shocked by the Russian Army's advance into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East Pruss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Germans were also surprised by how quickl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ritish Expeditionary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ched France and Belg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4648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lbert"/>
          <p:cNvPicPr/>
          <p:nvPr/>
        </p:nvPicPr>
        <p:blipFill>
          <a:blip r:embed="rId1"/>
          <a:stretch/>
        </p:blipFill>
        <p:spPr>
          <a:xfrm>
            <a:off x="5410080" y="15238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43:16Z</dcterms:created>
  <dc:creator>LAN User</dc:creator>
  <dc:description/>
  <dc:language>en-US</dc:language>
  <cp:lastModifiedBy>Local Admin</cp:lastModifiedBy>
  <dcterms:modified xsi:type="dcterms:W3CDTF">2013-03-05T18:50:36Z</dcterms:modified>
  <cp:revision>17</cp:revision>
  <dc:subject/>
  <dc:title>Off to War </dc:title>
</cp:coreProperties>
</file>