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1CF-029B-409F-B701-C4DC2869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B65-1AB2-46B3-A756-8DE10510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B23-AFD8-40D1-A9D5-B43C8B17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2D0-BFDE-49E9-812F-1F382412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AB1-C912-4C98-A7CC-0522699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9C9-8D49-4788-B08B-20020AD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A0B-50D3-4DA8-AFC3-75976B97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6E1-749F-4423-B171-B172319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4E4-F8BA-4116-BDC1-903A237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235-F9E7-4D2D-8581-E3DA75E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C49-5BCF-4A1D-A9BF-BB33145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C2F-0877-46DB-9C68-B01F2D5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58B-F0E9-4AB3-8428-DB7ECFCB3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 to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-360"/>
            <a:ext cx="4114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two figures in the cartoon?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horoughfare' means 'No Way Through'. What does the cartoonist mean b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way the two figures are dra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has the support of the cartoon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to say whether this cartoon reflects public opinion in Britain at th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cartoon might have influenced public opinion or government poli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01148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 2nd August 1914, the German army invaded Luxembourg and  Belgium according to the Schlieffen Pl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 Germans were held up by the Belgium army, backed up by the BEF (British  Expeditionary Force) which arrived extremely quick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mobilized in just 10 days and Germany was forced to withdraw troops from the Schlieffen Plan to defend her eastern bord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rmany  did not take the chance to take Paris, instead decided to attack east of  the capital.  They were met by French at the battle of the Marne  (5-11 Sept) which halted the German adva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29"/>
          <p:cNvSpPr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tle of Ma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ped the Germans but French troops were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sides dug trenches for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E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n Adven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028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17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ians join German soldiers on their first mile's march towards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rich Beutow- German School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emories of those of a child of course. I was in a small German garrison town in 1914 and I remember very well the tremendous enthusiasm.  Of course, we schoolboys were all indoctrinated with great patriotism when war broke out.  My father was an active infantry officer and I shall never forget the day when they marched out to the trains.  All the soldiers were decorated with flowers, there was no gun which did not show a flower.  Even the horses I think were decorated.  And of course all the people followed them.  Bands playing, flags flying, a terrific sort of overwhelming conviction that Germany now would go into war and win it very quickl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optport3"/>
          <p:cNvPicPr/>
          <p:nvPr/>
        </p:nvPicPr>
        <p:blipFill>
          <a:blip r:embed="rId1"/>
          <a:stretch/>
        </p:blipFill>
        <p:spPr>
          <a:xfrm>
            <a:off x="4641840" y="380880"/>
            <a:ext cx="4502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uddenly realised that the ambition of my lif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- since I was two - to go on a military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edition against the Turk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upert Brooke,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soldiers on the "Paris Express". The graffiti reads "on to Pari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6045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students on their way to en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 German Boy Pretends to Be a Sol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young boy pretending to be a German soldier"/>
          <p:cNvPicPr/>
          <p:nvPr/>
        </p:nvPicPr>
        <p:blipFill>
          <a:blip r:embed="rId1"/>
          <a:stretch/>
        </p:blipFill>
        <p:spPr>
          <a:xfrm>
            <a:off x="2133720" y="1447920"/>
            <a:ext cx="5181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will be looking at the beginning stages of the war and the excitement surround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lieffen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66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ecruits of the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Central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Austro-Hung troops waiting to depart"/>
          <p:cNvPicPr/>
          <p:nvPr/>
        </p:nvPicPr>
        <p:blipFill>
          <a:blip r:embed="rId1"/>
          <a:stretch/>
        </p:blipFill>
        <p:spPr>
          <a:xfrm>
            <a:off x="685800" y="1905120"/>
            <a:ext cx="3021120" cy="35049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66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 German Soldier Says Farewell to His 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German recruit bids farewell to his mother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299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304920" y="5638680"/>
            <a:ext cx="2514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ustro-Hung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1320" y="0"/>
            <a:ext cx="3047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re-free French troops would soon learn the realities of war in the industrial 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14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soldiers, also joined by civilians, on their way to Ber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7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0"/>
          <a:ext cx="8305560" cy="66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War the Adventure they thought it w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9480" y="1112760"/>
            <a:ext cx="82803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s book is to be neither an accusation nor a confession, and least of all an adventure, for death is not an adventure to those who stand face to face with it. It will try simply to tell of a generation of men who, even though they may have escaped shells, were destroyed by the war.”-- All Quiet on the Western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s of Troops at Start of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- 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- 1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ia/ Hungry- 4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ia- 1.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Britain- 120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men nor their officers had any experience in European warfa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160" y="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 Schlieffen's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rman plans for the war were based upon the work of Germany Army Chief of Staff, Alfred von Schlieffe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was asked to plan a  way of preventing a war on two fronts.    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 believed that it was a priority to defeat France quickly, forcing them to surrender before Russia had a chance to mobilize her  armed for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on Schlieffen planned to take advantage of the much slower mobilization capabilities of the Russian military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lan called for pushing the bulk of the entire German army against France in a massive six-week campaign. Once France had been defeated, the German army would then quickly move to the Eastern front and face the Russia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96040" y="1066680"/>
            <a:ext cx="284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the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ssia  would take at least 6 weeks to mobiliz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nce  would be easily defeated in 6 week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lgium  would not resist any German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tain  would remain neut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54480" y="106668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iser's war order is read on 1-Aug-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will be home before the leaves have fallen from the trees!!” - Wilhe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2nd August 1914, the Schlieffen Plan was put into op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 Army invade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Luxembou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rmans were held up b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elgian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re shocked by the Russian Army's advance into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East Pruss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Germans were also surprised by how quickly the </a:t>
            </a:r>
            <a:r>
              <a:rPr b="0" lang="en-US" sz="3200" spc="-1" strike="noStrike">
                <a:solidFill>
                  <a:srgbClr val="0000ee"/>
                </a:solidFill>
                <a:latin typeface="Times New Roman"/>
              </a:rPr>
              <a:t>British Expeditionary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ched France and Belg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lbert"/>
          <p:cNvPicPr/>
          <p:nvPr/>
        </p:nvPicPr>
        <p:blipFill>
          <a:blip r:embed="rId1"/>
          <a:stretch/>
        </p:blipFill>
        <p:spPr>
          <a:xfrm>
            <a:off x="5410080" y="15238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43:16Z</dcterms:created>
  <dc:creator>LAN User</dc:creator>
  <dc:description/>
  <dc:language>en-US</dc:language>
  <cp:lastModifiedBy>Local Admin</cp:lastModifiedBy>
  <dcterms:modified xsi:type="dcterms:W3CDTF">2013-03-05T18:50:36Z</dcterms:modified>
  <cp:revision>17</cp:revision>
  <dc:subject/>
  <dc:title>Off to War </dc:title>
</cp:coreProperties>
</file>