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79F-FD22-4B4D-A065-C70F86C2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93C-8694-441B-952B-9BA0CA0D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9F1-E4F8-4201-A708-F47E11A2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B904-F738-454B-951D-5AC46F23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CD36-5C2A-4554-B321-CC66DD8B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0D0D-0E33-49B7-ADEB-6674387E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27FB-F1BB-4F51-B4A5-9920D209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4487-3977-4888-90B6-C56ABCEF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DA94-6394-4CE8-9AE7-F3A7BBA8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507-60AD-457B-86F4-6769FB77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FF17-DCF4-4F54-B53A-DFFC1755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49F-5E53-48BE-BF65-94D88272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290B-488E-4D11-86CD-C01EFCE41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05E_ohaQGk&amp;feature=PlayList&amp;p=33FB4A6890A63335&amp;playnext=1&amp;playnext_from=PL&amp;index=1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19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38862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Christmas drew near, a desire for a truce grew as care packages began arriving from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rounding towns, villages, and various support associations generously gave warm clothes and letters of th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gifts included chocolate, butterscotch, cigarettes, and tobac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boosted morale and more than usual to eat, the Christmas Spirit entered the tren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167616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rding to a British journalist, the Germans managed to slip a chocolate cake into the British tre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more astonishingly, it was accompanied by a note asking for a ceasefire so the Germans could celebrate their captain’s 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christmasgermanofficerbritishtrench"/>
          <p:cNvPicPr/>
          <p:nvPr/>
        </p:nvPicPr>
        <p:blipFill>
          <a:blip r:embed="rId1"/>
          <a:stretch/>
        </p:blipFill>
        <p:spPr>
          <a:xfrm>
            <a:off x="228600" y="2176560"/>
            <a:ext cx="33526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itish accepted and offered some tobacco in ret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that night, with candles visible up on the edge of their trenches, the Germans began singing carols at the Brit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soldiers_in_trench"/>
          <p:cNvPicPr/>
          <p:nvPr/>
        </p:nvPicPr>
        <p:blipFill>
          <a:blip r:embed="rId1"/>
          <a:stretch/>
        </p:blipFill>
        <p:spPr>
          <a:xfrm>
            <a:off x="4495680" y="1820880"/>
            <a:ext cx="441972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495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14800" y="0"/>
            <a:ext cx="5029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ember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poradic fighting continued along the fro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ome areas, the Germans decorated their trench with small Christmas trees with candles in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mpted more carol singing and even meetings in no-man’s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as the first time that the opponents met, even if just briefly, in no-man’s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vtrench"/>
          <p:cNvPicPr/>
          <p:nvPr/>
        </p:nvPicPr>
        <p:blipFill>
          <a:blip r:embed="rId1"/>
          <a:stretch/>
        </p:blipFill>
        <p:spPr>
          <a:xfrm>
            <a:off x="0" y="1447920"/>
            <a:ext cx="41148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ember 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19360" y="0"/>
            <a:ext cx="4724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 silent morning, both troops and officers ventured into no-man’s 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one place on the line, the Germans and British played a game of soccer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ther places on the line, Christmas began on a sadder n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sides took the opportunity to seek out their fallen comrades and provide a proper bu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soccer"/>
          <p:cNvPicPr/>
          <p:nvPr/>
        </p:nvPicPr>
        <p:blipFill>
          <a:blip r:embed="rId1"/>
          <a:stretch/>
        </p:blipFill>
        <p:spPr>
          <a:xfrm>
            <a:off x="0" y="3124080"/>
            <a:ext cx="4343400" cy="3407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4853160" y="128736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76560" y="1951200"/>
            <a:ext cx="3809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ome units, the truce ended the next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any other units, the truce continued on past Boxing Day, and even until New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christmaslondonterritorials"/>
          <p:cNvPicPr/>
          <p:nvPr/>
        </p:nvPicPr>
        <p:blipFill>
          <a:blip r:embed="rId1"/>
          <a:stretch/>
        </p:blipFill>
        <p:spPr>
          <a:xfrm>
            <a:off x="228600" y="1143000"/>
            <a:ext cx="46483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952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commanders on both sides ordered continued attacks, but few troops obe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generals saw the truce as an opportunity to rebuild their defen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end, very few troops were punished for not following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ludendorff2"/>
          <p:cNvPicPr/>
          <p:nvPr/>
        </p:nvPicPr>
        <p:blipFill>
          <a:blip r:embed="rId1"/>
          <a:stretch/>
        </p:blipFill>
        <p:spPr>
          <a:xfrm>
            <a:off x="5549760" y="1905120"/>
            <a:ext cx="3186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, some believe that the truce was merely a lull that allowed both sides to reinforce defenses and scout the ene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tics see the truce as a natural effort by men trying to end the viole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youtube.com/watch?v=p05E_ohaQGk&amp;feature=PlayList&amp;p=33FB4A6890A63335&amp;playnext=1&amp;playnext_from=PL&amp;index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of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of today will be to give you the background information on the Christmas Tru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7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I began mid-19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rly trenches were  poorly constru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or locations got snip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ring bad weather, trenches would flood and cave i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dugout_ger_l"/>
          <p:cNvPicPr/>
          <p:nvPr/>
        </p:nvPicPr>
        <p:blipFill>
          <a:blip r:embed="rId1"/>
          <a:stretch/>
        </p:blipFill>
        <p:spPr>
          <a:xfrm>
            <a:off x="5715000" y="1219320"/>
            <a:ext cx="3222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inter of 1914 was particularly cold and w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ops often found themselves wading 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freezing mud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decaying bod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2057400"/>
            <a:ext cx="4867200" cy="3714840"/>
            <a:chOff x="0" y="2057400"/>
            <a:chExt cx="4867200" cy="3714840"/>
          </a:xfrm>
        </p:grpSpPr>
        <p:sp>
          <p:nvSpPr>
            <p:cNvPr id="51" name="Rectangle 11"/>
            <p:cNvSpPr/>
            <p:nvPr/>
          </p:nvSpPr>
          <p:spPr>
            <a:xfrm>
              <a:off x="0" y="2057400"/>
              <a:ext cx="4867200" cy="371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6" descr="ww1g"/>
            <p:cNvPicPr/>
            <p:nvPr/>
          </p:nvPicPr>
          <p:blipFill>
            <a:blip r:embed="rId1"/>
            <a:stretch/>
          </p:blipFill>
          <p:spPr>
            <a:xfrm>
              <a:off x="34920" y="2111400"/>
              <a:ext cx="4797360" cy="361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13"/>
          <p:cNvSpPr/>
          <p:nvPr/>
        </p:nvSpPr>
        <p:spPr>
          <a:xfrm>
            <a:off x="5257800" y="3581280"/>
            <a:ext cx="3581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at the front felt a degree of sympathy for their opponents who were facing the same miserable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iers at the front in 1914 could see damaged, but standing villages in the di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s were pitted from artillery, but not yet completely destro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village"/>
          <p:cNvPicPr/>
          <p:nvPr/>
        </p:nvPicPr>
        <p:blipFill>
          <a:blip r:embed="rId1"/>
          <a:stretch/>
        </p:blipFill>
        <p:spPr>
          <a:xfrm>
            <a:off x="4038480" y="0"/>
            <a:ext cx="4000680" cy="3090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0" y="3276720"/>
            <a:ext cx="59436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t that the ‘civilizing effect’ of the everyday world was always present at the fr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nners and customs of civilization, along with thoughts of home, softened the animosity of w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6237360" y="3676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xmasholly"/>
          <p:cNvPicPr/>
          <p:nvPr/>
        </p:nvPicPr>
        <p:blipFill>
          <a:blip r:embed="rId2"/>
          <a:stretch/>
        </p:blipFill>
        <p:spPr>
          <a:xfrm>
            <a:off x="5511960" y="3200400"/>
            <a:ext cx="3632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181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r was just a few months 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sery, pain, and hatred of war had not set in y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ponents mutually desired to know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o are we fighting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re the opponents as bad as the politicians, media, and priests sa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christmastruce"/>
          <p:cNvPicPr/>
          <p:nvPr/>
        </p:nvPicPr>
        <p:blipFill>
          <a:blip r:embed="rId1"/>
          <a:stretch/>
        </p:blipFill>
        <p:spPr>
          <a:xfrm>
            <a:off x="5486400" y="1924200"/>
            <a:ext cx="33336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14720" y="167616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the combination of these many factors that allowed the Christmas Truce to occ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uce “officially” began December 24, 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germancomrades1415_l"/>
          <p:cNvPicPr/>
          <p:nvPr/>
        </p:nvPicPr>
        <p:blipFill>
          <a:blip r:embed="rId1"/>
          <a:stretch/>
        </p:blipFill>
        <p:spPr>
          <a:xfrm>
            <a:off x="152280" y="2057400"/>
            <a:ext cx="47246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xmas1914_map_l"/>
          <p:cNvPicPr/>
          <p:nvPr/>
        </p:nvPicPr>
        <p:blipFill>
          <a:blip r:embed="rId1"/>
          <a:stretch/>
        </p:blipFill>
        <p:spPr>
          <a:xfrm>
            <a:off x="3886200" y="1371600"/>
            <a:ext cx="5038560" cy="5267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16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itish Army was manning a 27 mile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ned from Ypres to the La Bassee Ca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nemy trenches were very close together. Sometimes, the trenches were only 30 yards apart – well within shouting dista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as not uncommon for soldiers to talk across the lines to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ong the 27 mile stretch, many units came to tacit peace agre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units that just suffered aggressive attacks from the enemy were still able to make temporary pe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4:47:26Z</dcterms:created>
  <dc:creator>Brent</dc:creator>
  <dc:description/>
  <dc:language>en-US</dc:language>
  <cp:lastModifiedBy>Brian Sheehy</cp:lastModifiedBy>
  <dcterms:modified xsi:type="dcterms:W3CDTF">2011-03-07T15:23:59Z</dcterms:modified>
  <cp:revision>47</cp:revision>
  <dc:subject/>
  <dc:title>The Christmas Truce</dc:title>
</cp:coreProperties>
</file>