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C6F-D922-4298-9C21-3368AA17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F6C-3B5C-4BE0-8F06-B59208B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112-7532-4A7A-AE67-E8CCA56B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43F-E0EB-4AF6-94B0-6836CE40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237-CFFF-4740-8251-AEB249C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B19-18E2-4AF3-B6C2-EE50976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F2D-F985-46BF-B39F-95CF1BBF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68C-7FD3-419F-B366-CBAAAD6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1D3-503D-4AE8-B982-F72C5BC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471-DDE6-4180-AD5E-A8F3AD1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B57-76B1-4C4A-87B1-90656C2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063-CB24-4B63-9C57-9508AD08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387A-99FA-4918-AFA8-15B983DA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05E_ohaQGk&amp;feature=PlayList&amp;p=33FB4A6890A63335&amp;playnext=1&amp;playnext_from=PL&amp;index=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19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886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ristmas drew near, a desire for a truce grew as care packages began arriving from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ing towns, villages, and various support associations generously gave warm clothes and letters of 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ifts included chocolate, butterscotch, cigarettes, and tobac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oosted morale and more than usual to eat, the Christmas Spirit entered the tre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British journalist, the Germans managed to slip a chocolate cake into the British tre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astonishingly, it was accompanied by a note asking for a ceasefire so the Germans could celebrate their captain’s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hristmasgermanofficerbritishtrench"/>
          <p:cNvPicPr/>
          <p:nvPr/>
        </p:nvPicPr>
        <p:blipFill>
          <a:blip r:embed="rId1"/>
          <a:stretch/>
        </p:blipFill>
        <p:spPr>
          <a:xfrm>
            <a:off x="228600" y="2176560"/>
            <a:ext cx="3352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ccepted and offered some tobacco i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that night, with candles visible up on the edge of their trenches, the Germans began singing carols at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soldiers_in_trench"/>
          <p:cNvPicPr/>
          <p:nvPr/>
        </p:nvPicPr>
        <p:blipFill>
          <a:blip r:embed="rId1"/>
          <a:stretch/>
        </p:blipFill>
        <p:spPr>
          <a:xfrm>
            <a:off x="4495680" y="1820880"/>
            <a:ext cx="44197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poradic fighting continued along the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reas, the Germans decorated their trench with small Christmas trees with candles 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mpted more carol singing and even meetings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the first time that the opponents met, even if just briefly, in no-man’s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vtrench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silent morning, both troops and officers ventured into no-man’s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one place on the line, the Germans and British played a game of socc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places on the line, Christmas began on a sadder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ides took the opportunity to seek out their fallen comrades and provide a proper bu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ccer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40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853160" y="12873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6560" y="195120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units, the truce ended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any other units, the truce continued on past Boxing Day, and even until New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hristmaslondonterritorials"/>
          <p:cNvPicPr/>
          <p:nvPr/>
        </p:nvPicPr>
        <p:blipFill>
          <a:blip r:embed="rId1"/>
          <a:stretch/>
        </p:blipFill>
        <p:spPr>
          <a:xfrm>
            <a:off x="228600" y="114300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anders on both sides ordered continued attacks, but few troops obe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enerals saw the truce as an opportunity to rebuild their def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, very few troops were punished for not following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udendorff2"/>
          <p:cNvPicPr/>
          <p:nvPr/>
        </p:nvPicPr>
        <p:blipFill>
          <a:blip r:embed="rId1"/>
          <a:stretch/>
        </p:blipFill>
        <p:spPr>
          <a:xfrm>
            <a:off x="5549760" y="1905120"/>
            <a:ext cx="3186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some believe that the truce was merely a lull that allowed both sides to reinforce defenses and scout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tics see the truce as a natural effort by men trying to end the viol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05E_ohaQGk&amp;feature=PlayList&amp;p=33FB4A6890A63335&amp;playnext=1&amp;playnext_from=PL&amp;index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of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today will be to give you the background information on the Christmas Tru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I began mid-19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trenches were  poorly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r locations got sni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bad weather, trenches would flood and cave 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dugout_ger_l"/>
          <p:cNvPicPr/>
          <p:nvPr/>
        </p:nvPicPr>
        <p:blipFill>
          <a:blip r:embed="rId1"/>
          <a:stretch/>
        </p:blipFill>
        <p:spPr>
          <a:xfrm>
            <a:off x="5715000" y="12193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ter of 1914 was particularly cold and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often found themselves wading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freezing mud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decaying bo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2057400"/>
            <a:ext cx="4867200" cy="3714840"/>
            <a:chOff x="0" y="2057400"/>
            <a:chExt cx="4867200" cy="3714840"/>
          </a:xfrm>
        </p:grpSpPr>
        <p:sp>
          <p:nvSpPr>
            <p:cNvPr id="51" name="Rectangle 11"/>
            <p:cNvSpPr/>
            <p:nvPr/>
          </p:nvSpPr>
          <p:spPr>
            <a:xfrm>
              <a:off x="0" y="2057400"/>
              <a:ext cx="4867200" cy="371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ww1g"/>
            <p:cNvPicPr/>
            <p:nvPr/>
          </p:nvPicPr>
          <p:blipFill>
            <a:blip r:embed="rId1"/>
            <a:stretch/>
          </p:blipFill>
          <p:spPr>
            <a:xfrm>
              <a:off x="34920" y="2111400"/>
              <a:ext cx="4797360" cy="36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3"/>
          <p:cNvSpPr/>
          <p:nvPr/>
        </p:nvSpPr>
        <p:spPr>
          <a:xfrm>
            <a:off x="5257800" y="3581280"/>
            <a:ext cx="3581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t the front felt a degree of sympathy for their opponents who were facing the same miserabl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iers at the front in 1914 could see damaged, but standing villages in the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were pitted from artillery, but not yet completely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village"/>
          <p:cNvPicPr/>
          <p:nvPr/>
        </p:nvPicPr>
        <p:blipFill>
          <a:blip r:embed="rId1"/>
          <a:stretch/>
        </p:blipFill>
        <p:spPr>
          <a:xfrm>
            <a:off x="4038480" y="0"/>
            <a:ext cx="4000680" cy="3090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3276720"/>
            <a:ext cx="59436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t that the ‘civilizing effect’ of the everyday world was always present at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s and customs of civilization, along with thoughts of home, softened the animosity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237360" y="367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xmasholly"/>
          <p:cNvPicPr/>
          <p:nvPr/>
        </p:nvPicPr>
        <p:blipFill>
          <a:blip r:embed="rId2"/>
          <a:stretch/>
        </p:blipFill>
        <p:spPr>
          <a:xfrm>
            <a:off x="5511960" y="3200400"/>
            <a:ext cx="36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r was just a few month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ery, pain, and hatred of war had not set in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ponents mutually desired to know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are we figh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e the opponents as bad as the politicians, media, and priests s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hristmastruce"/>
          <p:cNvPicPr/>
          <p:nvPr/>
        </p:nvPicPr>
        <p:blipFill>
          <a:blip r:embed="rId1"/>
          <a:stretch/>
        </p:blipFill>
        <p:spPr>
          <a:xfrm>
            <a:off x="5486400" y="192420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4720" y="16761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he combination of these many factors that allowed the Christmas Truc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uce “officially” began December 24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rmancomrades1415_l"/>
          <p:cNvPicPr/>
          <p:nvPr/>
        </p:nvPicPr>
        <p:blipFill>
          <a:blip r:embed="rId1"/>
          <a:stretch/>
        </p:blipFill>
        <p:spPr>
          <a:xfrm>
            <a:off x="152280" y="2057400"/>
            <a:ext cx="4724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mas1914_map_l"/>
          <p:cNvPicPr/>
          <p:nvPr/>
        </p:nvPicPr>
        <p:blipFill>
          <a:blip r:embed="rId1"/>
          <a:stretch/>
        </p:blipFill>
        <p:spPr>
          <a:xfrm>
            <a:off x="3886200" y="1371600"/>
            <a:ext cx="5038560" cy="5267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Army was manning a 27 mil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ned from Ypres to the La Bassee Ca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ristmas Tr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my trenches were very close together. Sometimes, the trenches were only 30 yards apart – well within shouting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not uncommon for soldiers to talk across the lin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27 mile stretch, many units came to tacit peace agre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its that just suffered aggressive attacks from the enemy were still able to make temporary pe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47:26Z</dcterms:created>
  <dc:creator>Brent</dc:creator>
  <dc:description/>
  <dc:language>en-US</dc:language>
  <cp:lastModifiedBy>Brian Sheehy</cp:lastModifiedBy>
  <dcterms:modified xsi:type="dcterms:W3CDTF">2011-03-07T15:23:59Z</dcterms:modified>
  <cp:revision>47</cp:revision>
  <dc:subject/>
  <dc:title>The Christmas Truce</dc:title>
</cp:coreProperties>
</file>