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047-2080-4C0A-8CAC-444A85EE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0A3-C8EC-45AF-9A7B-6A2BD5B4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50B-3879-4D52-B756-C2CE9F02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F68-79EC-45A7-804F-414A4051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66F-EFDD-475A-926E-C3FE76A1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4CE-F015-44D6-BAD2-4DFF2068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742-3EEB-4EE0-B711-1ACFCCE7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C34-0B38-4630-BA94-5B32CDD8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638-CAA3-467A-86A8-DD6522A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572-A47F-45F8-8AF5-0F81053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36A-C815-40B6-83D0-B7DDAFB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F53-98E8-4215-B771-FE2F7C62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05DE-8D89-4F9F-965A-3F8ED5D36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05E_ohaQGk&amp;feature=PlayList&amp;p=33FB4A6890A63335&amp;playnext=1&amp;playnext_from=PL&amp;index=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19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886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ristmas drew near, a desire for a truce grew as care packages began arriving from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ing towns, villages, and various support associations generously gave warm clothes and letters of th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gifts included chocolate, butterscotch, cigarettes, and tobac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boosted morale and more than usual to eat, the Christmas Spirit entered the tre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a British journalist, the Germans managed to slip a chocolate cake into the British tre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astonishingly, it was accompanied by a note asking for a ceasefire so the Germans could celebrate their captain’s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hristmasgermanofficerbritishtrench"/>
          <p:cNvPicPr/>
          <p:nvPr/>
        </p:nvPicPr>
        <p:blipFill>
          <a:blip r:embed="rId1"/>
          <a:stretch/>
        </p:blipFill>
        <p:spPr>
          <a:xfrm>
            <a:off x="228600" y="2176560"/>
            <a:ext cx="33526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ccepted and offered some tobacco in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that night, with candles visible up on the edge of their trenches, the Germans began singing carols at the Brit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soldiers_in_trench"/>
          <p:cNvPicPr/>
          <p:nvPr/>
        </p:nvPicPr>
        <p:blipFill>
          <a:blip r:embed="rId1"/>
          <a:stretch/>
        </p:blipFill>
        <p:spPr>
          <a:xfrm>
            <a:off x="4495680" y="1820880"/>
            <a:ext cx="44197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80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poradic fighting continued along the fr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areas, the Germans decorated their trench with small Christmas trees with candles 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mpted more carol singing and even meetings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the first time that the opponents met, even if just briefly,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vtrench"/>
          <p:cNvPicPr/>
          <p:nvPr/>
        </p:nvPicPr>
        <p:blipFill>
          <a:blip r:embed="rId1"/>
          <a:stretch/>
        </p:blipFill>
        <p:spPr>
          <a:xfrm>
            <a:off x="0" y="1447920"/>
            <a:ext cx="41148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silent morning, both troops and officers ventured into no-man’s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one place on the line, the Germans and British played a game of soccer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places on the line, Christmas began on a sadder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sides took the opportunity to seek out their fallen comrades and provide a proper bu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ccer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407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853160" y="128736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76560" y="1951200"/>
            <a:ext cx="3809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units, the truce ended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other units, the truce continued on past Boxing Day, and even until New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hristmaslondonterritorials"/>
          <p:cNvPicPr/>
          <p:nvPr/>
        </p:nvPicPr>
        <p:blipFill>
          <a:blip r:embed="rId1"/>
          <a:stretch/>
        </p:blipFill>
        <p:spPr>
          <a:xfrm>
            <a:off x="228600" y="1143000"/>
            <a:ext cx="46483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952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mmanders on both sides ordered continued attacks, but few troops obe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enerals saw the truce as an opportunity to rebuild their def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nd, very few troops were punished for not following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udendorff2"/>
          <p:cNvPicPr/>
          <p:nvPr/>
        </p:nvPicPr>
        <p:blipFill>
          <a:blip r:embed="rId1"/>
          <a:stretch/>
        </p:blipFill>
        <p:spPr>
          <a:xfrm>
            <a:off x="5549760" y="1905120"/>
            <a:ext cx="3186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some believe that the truce was merely a lull that allowed both sides to reinforce defenses and scout the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tics see the truce as a natural effort by men trying to end the viol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youtube.com/watch?v=p05E_ohaQGk&amp;feature=PlayList&amp;p=33FB4A6890A63335&amp;playnext=1&amp;playnext_from=PL&amp;index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give you the background information on the Christmas Tru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I began mid-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trenches were  poorly con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r locations got snip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ing bad weather, trenches would flood and cave 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dugout_ger_l"/>
          <p:cNvPicPr/>
          <p:nvPr/>
        </p:nvPicPr>
        <p:blipFill>
          <a:blip r:embed="rId1"/>
          <a:stretch/>
        </p:blipFill>
        <p:spPr>
          <a:xfrm>
            <a:off x="5715000" y="12193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nter of 1914 was particularly cold and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ops often found themselves wading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freezing mud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decaying bo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2057400"/>
            <a:ext cx="4867200" cy="3714840"/>
            <a:chOff x="0" y="2057400"/>
            <a:chExt cx="4867200" cy="3714840"/>
          </a:xfrm>
        </p:grpSpPr>
        <p:sp>
          <p:nvSpPr>
            <p:cNvPr id="51" name="Rectangle 11"/>
            <p:cNvSpPr/>
            <p:nvPr/>
          </p:nvSpPr>
          <p:spPr>
            <a:xfrm>
              <a:off x="0" y="2057400"/>
              <a:ext cx="4867200" cy="371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6" descr="ww1g"/>
            <p:cNvPicPr/>
            <p:nvPr/>
          </p:nvPicPr>
          <p:blipFill>
            <a:blip r:embed="rId1"/>
            <a:stretch/>
          </p:blipFill>
          <p:spPr>
            <a:xfrm>
              <a:off x="34920" y="2111400"/>
              <a:ext cx="4797360" cy="36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3"/>
          <p:cNvSpPr/>
          <p:nvPr/>
        </p:nvSpPr>
        <p:spPr>
          <a:xfrm>
            <a:off x="5257800" y="3581280"/>
            <a:ext cx="3581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t the front felt a degree of sympathy for their opponents who were facing the same miserabl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iers at the front in 1914 could see damaged, but standing villages in the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were pitted from artillery, but not yet completely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village"/>
          <p:cNvPicPr/>
          <p:nvPr/>
        </p:nvPicPr>
        <p:blipFill>
          <a:blip r:embed="rId1"/>
          <a:stretch/>
        </p:blipFill>
        <p:spPr>
          <a:xfrm>
            <a:off x="4038480" y="0"/>
            <a:ext cx="4000680" cy="3090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0" y="3276720"/>
            <a:ext cx="59436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t that the ‘civilizing effect’ of the everyday world was always present at the 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ners and customs of civilization, along with thoughts of home, softened the animosity of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237360" y="367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xmasholly"/>
          <p:cNvPicPr/>
          <p:nvPr/>
        </p:nvPicPr>
        <p:blipFill>
          <a:blip r:embed="rId2"/>
          <a:stretch/>
        </p:blipFill>
        <p:spPr>
          <a:xfrm>
            <a:off x="5511960" y="3200400"/>
            <a:ext cx="363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r was just a few month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ery, pain, and hatred of war had not set in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ponents mutually desired to know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o are we fight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e the opponents as bad as the politicians, media, and priests s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hristmastruce"/>
          <p:cNvPicPr/>
          <p:nvPr/>
        </p:nvPicPr>
        <p:blipFill>
          <a:blip r:embed="rId1"/>
          <a:stretch/>
        </p:blipFill>
        <p:spPr>
          <a:xfrm>
            <a:off x="5486400" y="1924200"/>
            <a:ext cx="3333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14720" y="16761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he combination of these many factors that allowed the Christmas Truce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uce “officially” began December 24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germancomrades1415_l"/>
          <p:cNvPicPr/>
          <p:nvPr/>
        </p:nvPicPr>
        <p:blipFill>
          <a:blip r:embed="rId1"/>
          <a:stretch/>
        </p:blipFill>
        <p:spPr>
          <a:xfrm>
            <a:off x="152280" y="2057400"/>
            <a:ext cx="4724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mas1914_map_l"/>
          <p:cNvPicPr/>
          <p:nvPr/>
        </p:nvPicPr>
        <p:blipFill>
          <a:blip r:embed="rId1"/>
          <a:stretch/>
        </p:blipFill>
        <p:spPr>
          <a:xfrm>
            <a:off x="3886200" y="1371600"/>
            <a:ext cx="5038560" cy="5267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rmy was manning a 27 mil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ned from Ypres to the La Bassee Ca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my trenches were very close together. Sometimes, the trenches were only 30 yards apart – well within shouting dist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not uncommon for soldiers to talk across the lines to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the 27 mile stretch, many units came to tacit peace agre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its that just suffered aggressive attacks from the enemy were still able to make temporary pe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47:26Z</dcterms:created>
  <dc:creator>Brent</dc:creator>
  <dc:description/>
  <dc:language>en-US</dc:language>
  <cp:lastModifiedBy>Brian Sheehy</cp:lastModifiedBy>
  <dcterms:modified xsi:type="dcterms:W3CDTF">2011-03-07T15:23:59Z</dcterms:modified>
  <cp:revision>47</cp:revision>
  <dc:subject/>
  <dc:title>The Christmas Truce</dc:title>
</cp:coreProperties>
</file>