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012-CC82-461F-BE76-8B1329AA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10B-AE2F-42DC-9315-A051E661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1A1-4F24-43C7-8A82-1A17C467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051E-1CE7-461E-B13A-A8D6EAB1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613-B089-44C6-960E-DD53998A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ED4-B36E-4817-A05D-4934C404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B383-2601-4028-B353-3C9017ED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964-1C23-4848-83BF-A729D34E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DF0-8D48-49FE-B751-273ED883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43A-A64C-4A98-A12D-C3536A61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4CBE-6BD7-4EAC-B604-888BDAD3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0EE-6116-4B0D-BDE4-0807518F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5BFF-69DA-44E6-B385-976EA468F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ussian Revol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0" y="1066680"/>
            <a:ext cx="3886200" cy="516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4064040" y="1295280"/>
            <a:ext cx="507996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dustrial and ur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ssia had grown industrially but living and working conditions were horrend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erage working day was 14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de unions banned but some strikes took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tential for hotbed of political activ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rest prior to 19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assivity of the Russian people had 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y 1896 – riots in St. Peters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02 - Street demonstrations in Rostov on D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01-1907 arson of manor houses in rural areas became common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04 – Viacheslav Plehve – Minister of the interior assassinated by Social Revolu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066680" y="6095520"/>
            <a:ext cx="7391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1905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781680" y="1523880"/>
            <a:ext cx="160020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324480" y="2019240"/>
            <a:ext cx="2819520" cy="4879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sar becomes more unpop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ssia is humil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vernment seen to be weak and incompe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itions for the people get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ce rises food shortages and un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8"/>
          <p:cNvSpPr/>
          <p:nvPr/>
        </p:nvSpPr>
        <p:spPr>
          <a:xfrm>
            <a:off x="3733920" y="3200400"/>
            <a:ext cx="2286000" cy="259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ar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04920" y="1676520"/>
            <a:ext cx="167616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28600" y="2384280"/>
            <a:ext cx="2666880" cy="44982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1904/05 Russia and Japan fought for control of Korea and 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sar expected a quick vi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ssia suffered defeats on Land and sea. Japan destroyed the Russian N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2120" y="6019560"/>
            <a:ext cx="76960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32e0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Times New Roman"/>
              </a:rPr>
              <a:t>The 1905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705720" y="1523880"/>
            <a:ext cx="182880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477120" y="2286000"/>
            <a:ext cx="2438280" cy="340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sar undermined in the eyes of the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 grows for revolut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t off a wave of riots, strikes and mu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3048120" y="2514600"/>
            <a:ext cx="3124080" cy="2666880"/>
          </a:xfrm>
          <a:custGeom>
            <a:avLst/>
            <a:gdLst>
              <a:gd name="textAreaLeft" fmla="*/ 457560 w 3124080"/>
              <a:gd name="textAreaRight" fmla="*/ 2666520 w 3124080"/>
              <a:gd name="textAreaTop" fmla="*/ 390600 h 2666880"/>
              <a:gd name="textAreaBottom" fmla="*/ 22762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" y="12116"/>
                </a:lnTo>
                <a:lnTo>
                  <a:pt x="368" y="13595"/>
                </a:lnTo>
                <a:lnTo>
                  <a:pt x="786" y="14846"/>
                </a:lnTo>
                <a:lnTo>
                  <a:pt x="1447" y="16200"/>
                </a:lnTo>
                <a:lnTo>
                  <a:pt x="2175" y="17300"/>
                </a:lnTo>
                <a:lnTo>
                  <a:pt x="3163" y="18437"/>
                </a:lnTo>
                <a:lnTo>
                  <a:pt x="4151" y="19311"/>
                </a:lnTo>
                <a:lnTo>
                  <a:pt x="5400" y="20153"/>
                </a:lnTo>
                <a:lnTo>
                  <a:pt x="6580" y="20741"/>
                </a:lnTo>
                <a:lnTo>
                  <a:pt x="8005" y="21232"/>
                </a:lnTo>
                <a:lnTo>
                  <a:pt x="9297" y="21495"/>
                </a:lnTo>
                <a:lnTo>
                  <a:pt x="10800" y="21600"/>
                </a:lnTo>
                <a:lnTo>
                  <a:pt x="12116" y="21519"/>
                </a:lnTo>
                <a:lnTo>
                  <a:pt x="13595" y="21232"/>
                </a:lnTo>
                <a:lnTo>
                  <a:pt x="14846" y="20814"/>
                </a:lnTo>
                <a:lnTo>
                  <a:pt x="16200" y="20153"/>
                </a:lnTo>
                <a:lnTo>
                  <a:pt x="17300" y="19425"/>
                </a:lnTo>
                <a:lnTo>
                  <a:pt x="18437" y="18437"/>
                </a:lnTo>
                <a:lnTo>
                  <a:pt x="19311" y="17449"/>
                </a:lnTo>
                <a:lnTo>
                  <a:pt x="20153" y="16200"/>
                </a:lnTo>
                <a:lnTo>
                  <a:pt x="20741" y="15020"/>
                </a:lnTo>
                <a:lnTo>
                  <a:pt x="21232" y="13595"/>
                </a:lnTo>
                <a:lnTo>
                  <a:pt x="21495" y="12303"/>
                </a:lnTo>
                <a:lnTo>
                  <a:pt x="21600" y="10800"/>
                </a:lnTo>
                <a:lnTo>
                  <a:pt x="21519" y="9484"/>
                </a:lnTo>
                <a:lnTo>
                  <a:pt x="21232" y="8005"/>
                </a:lnTo>
                <a:lnTo>
                  <a:pt x="20814" y="6754"/>
                </a:lnTo>
                <a:lnTo>
                  <a:pt x="20153" y="5400"/>
                </a:lnTo>
                <a:lnTo>
                  <a:pt x="19425" y="4300"/>
                </a:lnTo>
                <a:lnTo>
                  <a:pt x="18437" y="3163"/>
                </a:lnTo>
                <a:lnTo>
                  <a:pt x="17449" y="2289"/>
                </a:lnTo>
                <a:lnTo>
                  <a:pt x="16200" y="1447"/>
                </a:lnTo>
                <a:lnTo>
                  <a:pt x="15020" y="859"/>
                </a:lnTo>
                <a:lnTo>
                  <a:pt x="13595" y="368"/>
                </a:lnTo>
                <a:lnTo>
                  <a:pt x="12303" y="105"/>
                </a:lnTo>
                <a:lnTo>
                  <a:pt x="10800" y="0"/>
                </a:lnTo>
                <a:lnTo>
                  <a:pt x="9484" y="81"/>
                </a:lnTo>
                <a:lnTo>
                  <a:pt x="8005" y="368"/>
                </a:lnTo>
                <a:lnTo>
                  <a:pt x="6754" y="786"/>
                </a:lnTo>
                <a:lnTo>
                  <a:pt x="5400" y="1447"/>
                </a:lnTo>
                <a:lnTo>
                  <a:pt x="4300" y="2175"/>
                </a:lnTo>
                <a:lnTo>
                  <a:pt x="3163" y="3163"/>
                </a:lnTo>
                <a:lnTo>
                  <a:pt x="2289" y="4151"/>
                </a:lnTo>
                <a:lnTo>
                  <a:pt x="1447" y="5400"/>
                </a:lnTo>
                <a:lnTo>
                  <a:pt x="859" y="6580"/>
                </a:lnTo>
                <a:lnTo>
                  <a:pt x="368" y="8005"/>
                </a:lnTo>
                <a:lnTo>
                  <a:pt x="105" y="929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loody Sun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609480" y="1600200"/>
            <a:ext cx="167652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28600" y="2286000"/>
            <a:ext cx="2590920" cy="4132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n 1905 200,00 unarmed workers march to the Winter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ands - Better living and working conditions - end to war - a parlia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diers fire on crowd killing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457200" y="0"/>
            <a:ext cx="8190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of 1905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October Manifest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ise of freedom of speech, right to form political pa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ablish a D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new laws without consent of the D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oken Prom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oting system was unfair rich had more influence than the p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ma had little influence over the Tsar and new la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rst two Dumas were dismissed for demanding re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rther changes introduced to excluded socia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rt II: The February Revolu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91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ll of the Ts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09680" y="586728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impact of WW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 u="sng">
                <a:solidFill>
                  <a:srgbClr val="000000"/>
                </a:solidFill>
                <a:uFillTx/>
                <a:latin typeface="Times New Roman"/>
              </a:rPr>
              <a:t>Military Defea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Russian army was big but poorly equipped.  As many as one- fourth of the Russian solders had no weapons of their own so they were forced to pick up guns of dead soldier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ransportation problems left many soldiers short on food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Lost two major battles in 1914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Caused loss of civilian and military mora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sar now held responsible for the defeats as he had taken charge of the arm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3124080" y="1295280"/>
            <a:ext cx="2819520" cy="2362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 of W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533520"/>
            <a:ext cx="2971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iticism of the T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or military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or political 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ft the Tsarina in charge of the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fused to accept advice from the D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248520" y="838080"/>
            <a:ext cx="25905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iticism if the Tsar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experienced and incompetent r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 the influence of Raspu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popular because she was Ge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048120" y="3935520"/>
            <a:ext cx="2819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le of Raspu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aimed to be a healer. Disliked by many yet held influence over both the Tsar and Tsar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025880" cy="629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4114800" y="0"/>
            <a:ext cx="3619440" cy="5321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4724280" y="563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14800" y="548640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sarina Alexandra relied on Rasputin to treat her hemophiliac son, Alex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of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of today will be to look at the factors surrounding Russia leaving WWI.  We also will look at the revolu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icholas I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spu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s for Russia’s difficulties in WW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y of Brest-Litov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19360" y="380880"/>
            <a:ext cx="47242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ecember 1916, Rasputin was assassinated by Prince Yssapov and other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28" descr="391px-Rasputin"/>
          <p:cNvPicPr/>
          <p:nvPr/>
        </p:nvPicPr>
        <p:blipFill>
          <a:blip r:embed="rId1"/>
          <a:stretch/>
        </p:blipFill>
        <p:spPr>
          <a:xfrm>
            <a:off x="0" y="0"/>
            <a:ext cx="44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tsar-brusilov"/>
          <p:cNvPicPr/>
          <p:nvPr/>
        </p:nvPicPr>
        <p:blipFill>
          <a:blip r:embed="rId1">
            <a:lum contrast="6000"/>
          </a:blip>
          <a:srcRect l="1817" t="11938" r="9577" b="14922"/>
          <a:stretch/>
        </p:blipFill>
        <p:spPr>
          <a:xfrm>
            <a:off x="2133720" y="1371600"/>
            <a:ext cx="4800600" cy="48006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10" name="Text Box 2"/>
          <p:cNvSpPr/>
          <p:nvPr/>
        </p:nvSpPr>
        <p:spPr>
          <a:xfrm>
            <a:off x="762120" y="380880"/>
            <a:ext cx="7772400" cy="68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6600"/>
                </a:solidFill>
                <a:latin typeface="Comic Sans MS"/>
              </a:rPr>
              <a:t>The Tsar with General Brusilov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conomic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ver 15 million men joined the ar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enough workers in factories and fa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used shortages of food and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ilway system very p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not supply the tr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not supply the t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prices r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NewRomanPS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Every day of fighting in 1915 required an expenditure of 25.7 million  roubles. In 1916 this sum had jumped to 41.7 million  rou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9"/>
          <p:cNvSpPr/>
          <p:nvPr/>
        </p:nvSpPr>
        <p:spPr>
          <a:xfrm>
            <a:off x="7086600" y="380880"/>
            <a:ext cx="1752480" cy="1447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11"/>
          <p:cNvSpPr/>
          <p:nvPr/>
        </p:nvSpPr>
        <p:spPr>
          <a:xfrm>
            <a:off x="380880" y="380880"/>
            <a:ext cx="1828800" cy="1447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1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cial discon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od shortages and price rises caused widespread dis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war had seen the population move from the countryside to the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ities soon became overcrowded and people lived in terrible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6781680" y="380880"/>
            <a:ext cx="205740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533520" y="380880"/>
            <a:ext cx="1752480" cy="1447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vents of the Revolution 19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2 20,000 steelworkers on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3 Women take to the streets to demonst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5 Now over half of Petrograd is on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6 Tsar orders troops to fire on crowds- 40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vents of the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6 Tsar closes the Du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7 Soldiers mutiny and establish the Petrograd Soviet with workers and sail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8 Tsar returns to Petrog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ch 1 Tsar loses support of a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ch 2 Tsar abd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ch 3 Grand Duke Michael refuses thr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8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4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owds shouted “Down with the Tsar.”  And, most important, the imperial troops refused to fire on the rio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Petrograd"/>
          <p:cNvPicPr/>
          <p:nvPr/>
        </p:nvPicPr>
        <p:blipFill>
          <a:blip r:embed="rId1"/>
          <a:stretch/>
        </p:blipFill>
        <p:spPr>
          <a:xfrm>
            <a:off x="914400" y="1781280"/>
            <a:ext cx="69343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of February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04920" y="2438280"/>
            <a:ext cx="3124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Provisional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A 12 member government led by Kere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Planned to rule until elections could be h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172200" y="2590920"/>
            <a:ext cx="26668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Petrograd Sov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ouncil of 2,500 depu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termined to share power with the Provisional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3352680" y="2438280"/>
            <a:ext cx="2362320" cy="327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al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956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erling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g Antiqua"/>
              </a:rPr>
              <a:t>On March 17, 1917, Russia became a republic, and the 300 year old Romanov Dynasty came to and end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erling Antiqu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erling Antiqua"/>
              </a:rPr>
              <a:t>The Royal Family was held at their residence, then a year later, they were assassinated at Ekaterinburg, Sib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Nikolaus_II"/>
          <p:cNvPicPr/>
          <p:nvPr/>
        </p:nvPicPr>
        <p:blipFill>
          <a:blip r:embed="rId1"/>
          <a:stretch/>
        </p:blipFill>
        <p:spPr>
          <a:xfrm>
            <a:off x="456552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How Was the War Going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" descr="RussianSoldiersSurrenderBattleOfTannenberg"/>
          <p:cNvPicPr/>
          <p:nvPr/>
        </p:nvPicPr>
        <p:blipFill>
          <a:blip r:embed="rId1"/>
          <a:stretch/>
        </p:blipFill>
        <p:spPr>
          <a:xfrm>
            <a:off x="1447920" y="1752480"/>
            <a:ext cx="62481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y the 20</a:t>
            </a:r>
            <a:r>
              <a:rPr b="0" lang="en-GB" sz="4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major crisis was due and had to hap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ssia was an unfair society and needed social, economic and political re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July 1917, a new offensive was mounted against the Germans---but the Germans struck back, 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Kronshtadt"/>
          <p:cNvPicPr/>
          <p:nvPr/>
        </p:nvPicPr>
        <p:blipFill>
          <a:blip r:embed="rId1"/>
          <a:stretch/>
        </p:blipFill>
        <p:spPr>
          <a:xfrm>
            <a:off x="838080" y="1817640"/>
            <a:ext cx="74678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vincial Government also promised wholesale re-distribution of land to the peas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fell apart:  the armies at the front “melted away” and made their way home to make sure they got their share of this land redistrib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57200" y="2057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petro4b"/>
          <p:cNvPicPr/>
          <p:nvPr/>
        </p:nvPicPr>
        <p:blipFill>
          <a:blip r:embed="rId1"/>
          <a:stretch/>
        </p:blipFill>
        <p:spPr>
          <a:xfrm>
            <a:off x="1676520" y="3733920"/>
            <a:ext cx="464796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0"/>
            <a:ext cx="3886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trograd Soviet opposed the war, and called for its immediate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Lenin_at_Finland_Station"/>
          <p:cNvPicPr/>
          <p:nvPr/>
        </p:nvPicPr>
        <p:blipFill>
          <a:blip r:embed="rId1"/>
          <a:stretch/>
        </p:blipFill>
        <p:spPr>
          <a:xfrm>
            <a:off x="3643200" y="0"/>
            <a:ext cx="55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724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adimir Lenin arrived in Petrograd on April 3, 1917 aboard a sealed train that had taken him from Switzerland through Germany. At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land S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e issued a speech denouncing both positions and demanding the elimination of dual power by the transfer of "all power to the soviets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rusin"/>
          <p:cNvPicPr/>
          <p:nvPr/>
        </p:nvPicPr>
        <p:blipFill>
          <a:blip r:embed="rId1"/>
          <a:stretch/>
        </p:blipFill>
        <p:spPr>
          <a:xfrm>
            <a:off x="4896000" y="0"/>
            <a:ext cx="4248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4419720" y="533520"/>
            <a:ext cx="4768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tober 19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The Bolsheviks, led by Vladimir Lenin, seized power in Russia and began the communist rev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30524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0" y="0"/>
            <a:ext cx="32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Russia signed the Treaty of Brest-Litovsk March 3 1918 with Germany and dropped out of the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3048120"/>
            <a:ext cx="335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Germany then sent their troops on the Eastern Front to the Western Fr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rcRect l="0" t="24530" r="0" b="0"/>
          <a:stretch/>
        </p:blipFill>
        <p:spPr>
          <a:xfrm>
            <a:off x="3295800" y="0"/>
            <a:ext cx="58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it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876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icholas II  (tsar of Russia)– autocratic and in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led a country covering one-sixth of the earth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 total lan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ssive personal w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cked by an army of 1 million and secret police (OKHR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itical parties banned – critics ended up in prison or ex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s was cens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http://news.bbc.co.uk/olmedia/1110000/images/_1113655_tsarnicholas150.jpg"/>
          <p:cNvPicPr/>
          <p:nvPr/>
        </p:nvPicPr>
        <p:blipFill>
          <a:blip r:embed="rId1"/>
          <a:stretch/>
        </p:blipFill>
        <p:spPr>
          <a:xfrm>
            <a:off x="5334120" y="1447920"/>
            <a:ext cx="34923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Y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533520"/>
            <a:ext cx="47242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y Russians worshipped the Tsar and peasa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ically had a picture of the Tsar on a wall of their h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http://sites.netscape.net/nicknicky777/ICON4.jpg"/>
          <p:cNvPicPr/>
          <p:nvPr/>
        </p:nvPicPr>
        <p:blipFill>
          <a:blip r:embed="rId1"/>
          <a:stretch/>
        </p:blipFill>
        <p:spPr>
          <a:xfrm>
            <a:off x="4843440" y="0"/>
            <a:ext cx="4300560" cy="4343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1219320" y="2678040"/>
            <a:ext cx="301140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276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lexandra and Alex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http://www.fr-d-serfes.org/royal/images/alexisandalexandra.jpg"/>
          <p:cNvPicPr/>
          <p:nvPr/>
        </p:nvPicPr>
        <p:blipFill>
          <a:blip r:embed="rId1"/>
          <a:stretch/>
        </p:blipFill>
        <p:spPr>
          <a:xfrm>
            <a:off x="5684760" y="1295280"/>
            <a:ext cx="3459240" cy="449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Romanov Family"/>
          <p:cNvPicPr/>
          <p:nvPr/>
        </p:nvPicPr>
        <p:blipFill>
          <a:blip r:embed="rId2">
            <a:lum contrast="6000"/>
          </a:blip>
          <a:srcRect l="1379" t="2096" r="1735" b="3202"/>
          <a:stretch/>
        </p:blipFill>
        <p:spPr>
          <a:xfrm>
            <a:off x="0" y="0"/>
            <a:ext cx="5791320" cy="372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809520"/>
            <a:ext cx="41911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00000"/>
                </a:solidFill>
                <a:latin typeface="Architect"/>
              </a:rPr>
              <a:t>The Tsar &amp; His 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http://www.emich.edu/public/history/moss/phutp.jpg"/>
          <p:cNvPicPr/>
          <p:nvPr/>
        </p:nvPicPr>
        <p:blipFill>
          <a:blip r:embed="rId1"/>
          <a:stretch/>
        </p:blipFill>
        <p:spPr>
          <a:xfrm>
            <a:off x="4267080" y="1676520"/>
            <a:ext cx="4876920" cy="3692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nypl.org/research/chss/slv/exhibit/peasant.jpg"/>
          <p:cNvPicPr/>
          <p:nvPr/>
        </p:nvPicPr>
        <p:blipFill>
          <a:blip r:embed="rId2"/>
          <a:stretch/>
        </p:blipFill>
        <p:spPr>
          <a:xfrm>
            <a:off x="0" y="609480"/>
            <a:ext cx="4154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ussia wa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40% ethnic R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0% were peasants – subsistence farm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%+ = illit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fe expectancy = 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w tech and low inve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d ownership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d owned by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OBSCHINA (Commu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also organised taxes and allotted strips of land to each househ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4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easants cont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asants could not leave the commune without the consent of the e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cipline and punishments harsh – even to exile in Sib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rought and crop failure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891 = famine + cholera and typhus = 400,000 d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890 – 64 % of peasants called up for military service were declared unf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2:39:50Z</dcterms:created>
  <dc:creator>Osborne</dc:creator>
  <dc:description/>
  <dc:language>en-US</dc:language>
  <cp:lastModifiedBy>Brian Sheehy</cp:lastModifiedBy>
  <dcterms:modified xsi:type="dcterms:W3CDTF">2014-09-16T11:50:40Z</dcterms:modified>
  <cp:revision>19</cp:revision>
  <dc:subject/>
  <dc:title> The February Revolution </dc:title>
</cp:coreProperties>
</file>