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0C2-14C5-4786-B053-BE98E1E5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B7D-7BF3-4B37-837E-D92B6C3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732-6C5C-4743-8389-F350093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C8A-3DEA-4742-82CE-53F6CB5B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A2C-3836-45C3-A116-F0F7D3E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F4A-4B5F-4CB3-8524-6FE9B8C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DED-49A1-4D76-A871-DBDE5A6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7E0-F437-4D3E-A298-4EE8840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429-E954-475D-B0AB-538BBAA6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B34-3F27-4BB8-969D-4724C7A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2FB-FA89-49A0-9DE9-9D5BCAB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5B8-428B-4421-ACDA-7D0F362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F8A-B188-49C1-BFC4-8DD510EF7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n Rev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516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64040" y="1295280"/>
            <a:ext cx="50799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ustrial and ur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had grown industrially but living and working conditions were horrend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rage working day was 1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de unions banned but some strikes took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tential for hotbed of political ac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rest prior to 19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assivity of the Russian people had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896 – riots in St. Peter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2 - Street demonstrations in Rostov on 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1-1907 arson of manor houses in rural areas became common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4 – Viacheslav Plehve – Minister of the interior assassinated by Social Revolu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60955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781680" y="15238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324480" y="2019240"/>
            <a:ext cx="281952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733920" y="3200400"/>
            <a:ext cx="228600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2384280"/>
            <a:ext cx="2666880" cy="4498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6019560"/>
            <a:ext cx="76960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152388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77120" y="2286000"/>
            <a:ext cx="243828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48120" y="251460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2286000"/>
            <a:ext cx="259092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1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October Manifes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ise of freedom of speech, right to form political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blish a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new laws without consent of the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oken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ting system was unfair rich had more influence than the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ma had little influence over the Tsar and new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two Dumas were dismissed for demanding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rther changes introduced to excluded so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II: The February Revolu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09680" y="58672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 u="sng">
                <a:solidFill>
                  <a:srgbClr val="000000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Russian army was big but poorly equipped.  As many as one- fourth of the Russian solders had no weapons of their own so they were forced to pick up guns of dead soldier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nsportation problems left many soldiers short on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if the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25880" cy="629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114800" y="0"/>
            <a:ext cx="361944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72428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sarina Alexandra relied on Rasputin to treat her hemophiliac son, Alex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factors surrounding Russia leaving WWI.  We also will look at the rev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I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Russia’s difficulties in WW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Brest-Litov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360" y="38088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cember 1916, Rasputin was assassinated by Prince Yssapov and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28" descr="391px-Rasputin"/>
          <p:cNvPicPr/>
          <p:nvPr/>
        </p:nvPicPr>
        <p:blipFill>
          <a:blip r:embed="rId1"/>
          <a:stretch/>
        </p:blipFill>
        <p:spPr>
          <a:xfrm>
            <a:off x="0" y="0"/>
            <a:ext cx="44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sar-brusilov"/>
          <p:cNvPicPr/>
          <p:nvPr/>
        </p:nvPicPr>
        <p:blipFill>
          <a:blip r:embed="rId1">
            <a:lum contrast="6000"/>
          </a:blip>
          <a:srcRect l="1817" t="11938" r="9577" b="14922"/>
          <a:stretch/>
        </p:blipFill>
        <p:spPr>
          <a:xfrm>
            <a:off x="2133720" y="1371600"/>
            <a:ext cx="4800600" cy="48006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0" name="Text Box 2"/>
          <p:cNvSpPr/>
          <p:nvPr/>
        </p:nvSpPr>
        <p:spPr>
          <a:xfrm>
            <a:off x="762120" y="380880"/>
            <a:ext cx="77724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00"/>
                </a:solidFill>
                <a:latin typeface="Comic Sans MS"/>
              </a:rPr>
              <a:t>The Tsar with General Brusilov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15 million men joined the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nough workers in factories and 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used shortages of food and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lway system very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prices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NewRomanPS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Every day of fighting in 1915 required an expenditure of 25.7 million  roubles. In 1916 this sum had jumped to 41.7 million  rou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 19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wds shouted “Down with the Tsar.”  And, most important, the imperial troops refused to fire on the rio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etrograd"/>
          <p:cNvPicPr/>
          <p:nvPr/>
        </p:nvPicPr>
        <p:blipFill>
          <a:blip r:embed="rId1"/>
          <a:stretch/>
        </p:blipFill>
        <p:spPr>
          <a:xfrm>
            <a:off x="914400" y="1781280"/>
            <a:ext cx="693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43828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72200" y="2590920"/>
            <a:ext cx="2666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352680" y="2438280"/>
            <a:ext cx="2362320" cy="32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g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On March 17, 1917, Russia became a republic, and the 300 year old Romanov Dynasty came to and end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erling Antiqua"/>
              </a:rPr>
              <a:t>The Royal Family was held at their residence, then a year later, they were assassinated at Ekaterinburg, Sib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Nikolaus_II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How Was the War Go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RussianSoldiersSurrenderBattleOfTannenberg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20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ajor crisis was due and had to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was an unfair society and needed social, economic and political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uly 1917, a new offensive was mounted against the Germans---but the Germans struck back,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Kronshtadt"/>
          <p:cNvPicPr/>
          <p:nvPr/>
        </p:nvPicPr>
        <p:blipFill>
          <a:blip r:embed="rId1"/>
          <a:stretch/>
        </p:blipFill>
        <p:spPr>
          <a:xfrm>
            <a:off x="838080" y="1817640"/>
            <a:ext cx="7467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vincial Government also promised wholesale re-distribution of land to the pea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fell apart:  the armies at the front “melted away” and made their way home to make sure they got their share of this land re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720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petro4b"/>
          <p:cNvPicPr/>
          <p:nvPr/>
        </p:nvPicPr>
        <p:blipFill>
          <a:blip r:embed="rId1"/>
          <a:stretch/>
        </p:blipFill>
        <p:spPr>
          <a:xfrm>
            <a:off x="1676520" y="3733920"/>
            <a:ext cx="46479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trograd Soviet opposed the war, and called for its immediate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Lenin_at_Finland_Station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Lenin arrived in Petrograd on April 3, 1917 aboard a sealed train that had taken him from Switzerland through Germany. At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land S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issued a speech denouncing both positions and demanding the elimination of dual power by the transfer of "all power to the sovie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rusin"/>
          <p:cNvPicPr/>
          <p:nvPr/>
        </p:nvPicPr>
        <p:blipFill>
          <a:blip r:embed="rId1"/>
          <a:stretch/>
        </p:blipFill>
        <p:spPr>
          <a:xfrm>
            <a:off x="4896000" y="0"/>
            <a:ext cx="42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419720" y="533520"/>
            <a:ext cx="476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Bolsheviks, led by Vladimir Lenin, seized power in Russia and began the communist rev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05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0" y="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Russia signed the Treaty of Brest-Litovsk March 3 1918 with Germany and dropped ou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04812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ermany then sent their troops on the Eastern Front to the Western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rcRect l="0" t="24530" r="0" b="0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cholas II  (tsar of Russia)– autocratic and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led a country covering one-sixth of the eart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 total lan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ssive personal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ed by an army of 1 million and secret police (OKH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parties banned – critics ended up in prison or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 was cens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news.bbc.co.uk/olmedia/1110000/images/_1113655_tsarnicholas150.jpg"/>
          <p:cNvPicPr/>
          <p:nvPr/>
        </p:nvPicPr>
        <p:blipFill>
          <a:blip r:embed="rId1"/>
          <a:stretch/>
        </p:blipFill>
        <p:spPr>
          <a:xfrm>
            <a:off x="5334120" y="1447920"/>
            <a:ext cx="3492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533520"/>
            <a:ext cx="4724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Russians worshipped the Tsar and pea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had a picture of the Tsar on a wall of their h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sites.netscape.net/nicknicky777/ICON4.jpg"/>
          <p:cNvPicPr/>
          <p:nvPr/>
        </p:nvPicPr>
        <p:blipFill>
          <a:blip r:embed="rId1"/>
          <a:stretch/>
        </p:blipFill>
        <p:spPr>
          <a:xfrm>
            <a:off x="4843440" y="0"/>
            <a:ext cx="4300560" cy="434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219320" y="2678040"/>
            <a:ext cx="3011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exandra and Alex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http://www.fr-d-serfes.org/royal/images/alexisandalexandra.jpg"/>
          <p:cNvPicPr/>
          <p:nvPr/>
        </p:nvPicPr>
        <p:blipFill>
          <a:blip r:embed="rId1"/>
          <a:stretch/>
        </p:blipFill>
        <p:spPr>
          <a:xfrm>
            <a:off x="5684760" y="1295280"/>
            <a:ext cx="3459240" cy="449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Romanov Family"/>
          <p:cNvPicPr/>
          <p:nvPr/>
        </p:nvPicPr>
        <p:blipFill>
          <a:blip r:embed="rId2">
            <a:lum contrast="6000"/>
          </a:blip>
          <a:srcRect l="1379" t="2096" r="1735" b="3202"/>
          <a:stretch/>
        </p:blipFill>
        <p:spPr>
          <a:xfrm>
            <a:off x="0" y="0"/>
            <a:ext cx="5791320" cy="37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Architect"/>
              </a:rPr>
              <a:t>The Tsar &amp; His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ttp://www.emich.edu/public/history/moss/phutp.jpg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9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ypl.org/research/chss/slv/exhibit/peasant.jpg"/>
          <p:cNvPicPr/>
          <p:nvPr/>
        </p:nvPicPr>
        <p:blipFill>
          <a:blip r:embed="rId2"/>
          <a:stretch/>
        </p:blipFill>
        <p:spPr>
          <a:xfrm>
            <a:off x="0" y="609480"/>
            <a:ext cx="4154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 wa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40% ethnic R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% were peasants – subsistence far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%+ = il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fe expectancy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tech and low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rship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d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BSCHINA (Comm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so organised taxes and allotted strips of land to each house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asants co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asants could not leave the commune without the consent of the 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ipline and punishments harsh – even to exile in Sib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ought and crop failu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1 = famine + cholera and typhus = 400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0 – 64 % of peasants called up for military service were declared un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2:39:50Z</dcterms:created>
  <dc:creator>Osborne</dc:creator>
  <dc:description/>
  <dc:language>en-US</dc:language>
  <cp:lastModifiedBy>Brian Sheehy</cp:lastModifiedBy>
  <dcterms:modified xsi:type="dcterms:W3CDTF">2014-09-16T11:50:40Z</dcterms:modified>
  <cp:revision>19</cp:revision>
  <dc:subject/>
  <dc:title> The February Revolution </dc:title>
</cp:coreProperties>
</file>